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59532-801C-46D1-AA9F-323256E093F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ACF99-02A0-4FB8-A182-5BA93273C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B25F9-21FC-4331-B71F-F7D8D24432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E743D-09F6-4EAC-A451-5581F41751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9AA86-5BE1-4356-A178-6F94CF648D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2B923-08AA-4CEC-A3D6-D0F1682423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17DC7-4508-4A64-8A6A-0EA913E24B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BE589-D57F-448E-B0B2-A5B70F826D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A4C-5359-48A8-9891-64EF8CD0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DCD-6572-4AB3-8F10-07860CD7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140-6685-4A70-976F-44C9D938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84F-DA4A-46E0-889F-336B7B7D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14E-778D-4F13-86FF-9147B4C7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2B6-557D-4077-901D-8E41BC24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F41-410B-43B8-9083-375FDF10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F10-1638-4CFC-BEC5-E0A7866F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1BA-A17B-4BE9-B423-15EF9B72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C9C-94C8-483F-B7F5-B1DBF6F6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CDC-2A22-4BC9-BC14-E5BB90CA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A19-6719-45DA-B7EB-A715A18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712E7-689E-406D-AAFB-4EDAD227C03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C7F9E-B495-4262-9CCA-B6F7CAE127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51040" y="628200"/>
            <a:ext cx="3544920" cy="26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         </a:t>
            </a: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ncient Chinese Civilization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4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00 B.C. – A.D. 58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914640" y="6016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3840" y="272880"/>
            <a:ext cx="85550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irst Dynasty Around 2000BC-1500BC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Use of curr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rades outside ch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econd Dynasty Around 1500BC-100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Unification of Currency, metric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914640" y="62546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Diagram 8" descr=""/>
          <p:cNvPicPr/>
          <p:nvPr/>
        </p:nvPicPr>
        <p:blipFill>
          <a:blip r:embed="rId2"/>
          <a:stretch/>
        </p:blipFill>
        <p:spPr>
          <a:xfrm>
            <a:off x="-6480" y="-23760"/>
            <a:ext cx="9156960" cy="6888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3556080" y="620064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eneva"/>
              </a:rPr>
              <a:t>Buddh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363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  <a:ea typeface="Cambria"/>
              </a:rPr>
              <a:t>Founded by Siddhartha Gautama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  <a:ea typeface="Cambria"/>
              </a:rPr>
              <a:t>Worship in temple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  <a:ea typeface="Cambria"/>
              </a:rPr>
              <a:t>No personal God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 Four Noble Truth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arm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 Cycle of Rebirth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  <a:ea typeface="Geneva"/>
              </a:rPr>
              <a:t>360 million follower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  <a:ea typeface="Geneva"/>
              </a:rPr>
              <a:t>523 BCE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  <a:ea typeface="Geneva"/>
              </a:rPr>
              <a:t>Sacred Text: The Tripitaka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586480" y="3508200"/>
            <a:ext cx="2484360" cy="2356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3914640" y="60166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eneva"/>
              </a:rPr>
              <a:t>Confucian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1840" y="1289160"/>
            <a:ext cx="8364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Founded by Chinese Philosopher K'ung Fu Tzu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Believe in the Great God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Do not believe in heaven or hel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Mainly concerned with moral values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Li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Hsiao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Yi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Xin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Jen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Cambria"/>
              </a:rPr>
              <a:t>Chung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6.3 million followers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520 BC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  <a:ea typeface="Geneva"/>
              </a:rPr>
              <a:t>Sacred Text: Lun Yu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576760" y="3622680"/>
            <a:ext cx="2021040" cy="2071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914640" y="60166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eneva"/>
              </a:rPr>
              <a:t>Tao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Cambria"/>
              </a:rPr>
              <a:t>Founded by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Lao T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Cambria"/>
              </a:rPr>
              <a:t>The Tao, known as “The way of life”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Yin and Y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Emphasize the Three Jewels of the Ta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Geneva"/>
              </a:rPr>
              <a:t>Compas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Geneva"/>
              </a:rPr>
              <a:t>Moder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Geneva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Wu We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Geneva"/>
              </a:rPr>
              <a:t>The S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4459320" y="4084560"/>
            <a:ext cx="2252520" cy="2251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3705120" y="638496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eneva"/>
              </a:rPr>
              <a:t>Tao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3 branches of Taois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Philosophical Taoism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Religious Taoism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Folk Taois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550 B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255 million followe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Geneva"/>
              </a:rPr>
              <a:t>Sacred Text: Tao-te-Ching and Chuang Tz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525840" y="620064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eneva"/>
              </a:rPr>
              <a:t>Chinese Edu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-1840 (Imperial Educa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840-1949 (Opium War - P.R.C.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49-1966 (P.R.C. - Cultural Revolu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66-1976 (Cultural Revolu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76- Present (Post-Mao Reform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914640" y="60166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roline Stew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Development of Chinese Cultur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28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Chinese made up their own name for China which was “the Middle Kingdom”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people growing up in China had unifying bonds, and they owed obedience and respect to their ruler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family was central to Chinese societ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society was divided between nobles and peasants. The noble families owned the land and governed the scattered villages within the Shang land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n China, families were closely linked by religion. They believed the spirits of family ancestors could bring good fortune or disast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worshipped a supreme god, Shang Di. They consulted the gods through oracle bones, animals bones and tortoise shell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Chinese system of writing had its advantages and disadvantage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914640" y="6488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73280" y="272520"/>
            <a:ext cx="7913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oundation 4000BC-2000BC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Pottery Ar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haracteristic/shape of pot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Symbols/Patterns in a pot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Different ways of making po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H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915080" y="4417920"/>
            <a:ext cx="3555720" cy="2235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1628640" y="6126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83920" y="272520"/>
            <a:ext cx="8102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irst Dynasty 2000BC-150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Pottery Ar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ss Production of p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ntainers for sa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rtistic Potte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usic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asy music using five no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5584680" y="272880"/>
            <a:ext cx="3302280" cy="2463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3914640" y="62006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ntroduction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732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hina’s first cities were built 4000 years ag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aleolithic people lived near what is today the city of Beijing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Later, Neolithic people started to develop along the Yellow River (Huang He River)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People domesticated many kinds of animals, improved their tools and weapons, develop agriculture, and eventually settled in permanent communiti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Chinese civilization was also successful because of the influence of two great leaders, Siddhartha Gautama (the Buddha) and Confuciu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914640" y="6016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76240" y="272520"/>
            <a:ext cx="781056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Second Dynasty 1500BC-1000BC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Bronze A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atu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ntainer with draw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tistic model/ Container just to wat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loth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ilk Cloth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avey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eligious Gra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mbs for k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Bottle for alcoh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ss Production of alcoh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200640" y="272880"/>
            <a:ext cx="2486160" cy="2779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113440" y="3932280"/>
            <a:ext cx="3492360" cy="23241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3914640" y="64450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6245280" y="2523960"/>
            <a:ext cx="2421000" cy="1360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6120" y="272520"/>
            <a:ext cx="8029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ird Dynasty 1000BC-50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onze A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t Artistic, container for use rather than ar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ild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oof tiles are commonly u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ater proofed wal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alls built around the city and the palace for defence u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et/thought written down on sto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3914640" y="60166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5927760" y="1082520"/>
            <a:ext cx="2901960" cy="2127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522360" y="272520"/>
            <a:ext cx="80596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arring State 500BC-25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st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de more for a w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fensive c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rth Dynasty 250BC-0B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easure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surements/currency unified into one syst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vention of Pap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12788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vention of paper, used for wrapp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914640" y="6488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0" y="2832120"/>
            <a:ext cx="5927760" cy="3946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2600" y="52200"/>
            <a:ext cx="3008160" cy="44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angua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Content Placeholder 9" descr=""/>
          <p:cNvPicPr/>
          <p:nvPr/>
        </p:nvPicPr>
        <p:blipFill>
          <a:blip r:embed="rId3"/>
          <a:stretch/>
        </p:blipFill>
        <p:spPr>
          <a:xfrm>
            <a:off x="347760" y="268200"/>
            <a:ext cx="8815320" cy="6608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493200"/>
            <a:ext cx="4302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e Chinese language is the most spoken language in the world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Up until the 18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century 90% of all books were printed in Chines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 average child knows about 5,000 character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haracters stand for one word or idea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6769080" y="309600"/>
            <a:ext cx="19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loria More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2009880" y="128520"/>
            <a:ext cx="1968480" cy="217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0" y="2303640"/>
            <a:ext cx="2519280" cy="4760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00816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617040"/>
            <a:ext cx="515304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inese art is some of the most intricate and beautiful art in the world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ay, jade, and bronze are the the three dominant materials used in ancient Chinese potte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ligraphy became a popular art form during the Han Dynasty. It was a way to convey thoughts as well as showcase the beauty of abstract lines. The work was so brilliant it was admired from people everywhe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5424480" y="0"/>
            <a:ext cx="3719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3465360" y="6303960"/>
            <a:ext cx="20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loria More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Comic Sans MS"/>
              </a:rPr>
              <a:t>再见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5689440" y="4332240"/>
            <a:ext cx="3454560" cy="234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182520" y="3095640"/>
            <a:ext cx="2711520" cy="3586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4"/>
          <a:stretch/>
        </p:blipFill>
        <p:spPr>
          <a:xfrm>
            <a:off x="395280" y="17604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5"/>
          <a:stretch/>
        </p:blipFill>
        <p:spPr>
          <a:xfrm>
            <a:off x="6383160" y="438120"/>
            <a:ext cx="256572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6684840" y="4070520"/>
            <a:ext cx="1917720" cy="15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4570560" y="4070520"/>
            <a:ext cx="1919160" cy="156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6654960" y="1655640"/>
            <a:ext cx="1947600" cy="157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iver System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4160" y="1417320"/>
            <a:ext cx="843264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re are three major rivers that play an important role in China’s history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Huang He River (2,900 mil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Found in the Nort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Deposits huge amount of yellowish silt when it overflows its bank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Built dikes to protect their crop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Ancient Chinese people nicknamed the river “China’s Sorrow”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Chang Jiang River (3,434 mil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Flows east to the Yellow S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Xi River (1,200 mil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Is found in southern Chi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- Forms an important commercial waterway like the Chang Jiang Riv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3914640" y="6384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hina-map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Map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f</a:t>
            </a: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 Chin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Oval 4"/>
          <p:cNvSpPr/>
          <p:nvPr/>
        </p:nvSpPr>
        <p:spPr>
          <a:xfrm>
            <a:off x="6630840" y="2511360"/>
            <a:ext cx="1176480" cy="5191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7227720" y="2511360"/>
            <a:ext cx="1690920" cy="25830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2625840" y="2301840"/>
            <a:ext cx="923760" cy="1457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2625840" y="3333600"/>
            <a:ext cx="1501560" cy="6210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 rot="1540200">
            <a:off x="2803320" y="3843360"/>
            <a:ext cx="944280" cy="392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4213080" y="1959120"/>
            <a:ext cx="1400400" cy="5554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4213080" y="2514600"/>
            <a:ext cx="1400400" cy="515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85800" y="581508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/3 of China’s landmass is covered in mountain r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3914640" y="6384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9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Xia Dynast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first Chinese Dynasty, emerged around 2000 B.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s leader was an engineer and mathematician called Yu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riting symbols were also starting to be used during this dynas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legend of Yu made the transition of a society to civil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914640" y="6016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Dynast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rose to power in northern China sometime between 1750 B.C. and 1500 B.C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y moved their capital many times but eventually placed it near what today is the city of Anyang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hang Rulers created a complex bureaucracy, in which a king owned the land in the empire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Dynasty ruled most of the eastern central China at one point and lasted from 1750 B.C. to 1122 B.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Shang kings were the first family of Chinese rulers to leave written records, build palaces and tombs with artifacts in them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914640" y="6384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Zhou Dynast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most enduring Chinese dynasty was the Zhou dynasty, which lasted almost 800 years, from 1122 B.C. to 256 B.C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Zhou leaders declared that the final Shang king was a poor ruler so the gods had taken away the Shang’s rule and given it to the Zhou. This was then approved as the Mandate of Heave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 system called feudalism was established to control the different regions. Feudalism was when power was given to members of the family members and trusted noble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Zhou Dynasty produced many innovations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oads and canals were built to stimulate trade and agricultur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ined money was introduced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Blast furnaces that produced cast iron were developed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ast iron productions started to begin during this dynasty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eapons were created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ron tools were used for common agricultural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6485040" y="6384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hen-Kai 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66560" y="272520"/>
            <a:ext cx="82202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Before Foundation 6000-400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economy was mainly based 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Hunting/Fis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Agri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Domestication of anima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economy was usually only inside a trib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3914640" y="60166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7680" y="272520"/>
            <a:ext cx="8439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oundation Around 4000BC-2000B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trade between tribes had start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Mass Production of pottery had start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accessories and left over were traded into ne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914640" y="60166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ki Yan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55:54Z</dcterms:created>
  <dc:creator>IT User</dc:creator>
  <dc:description/>
  <dc:language>en-US</dc:language>
  <cp:lastModifiedBy>IT User</cp:lastModifiedBy>
  <dcterms:modified xsi:type="dcterms:W3CDTF">2010-10-12T08:31:36Z</dcterms:modified>
  <cp:revision>31</cp:revision>
  <dc:subject/>
  <dc:title>           China</dc:title>
</cp:coreProperties>
</file>